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44E-CE3E-4017-B7D7-3CC81B53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CE2D-9319-4D53-8CA0-43C7F8E0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B5A-FF33-454F-963F-D630CABC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1DF4-0A0B-45E8-9A7D-394A83A5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B6A3-D897-409C-92FE-857E36ED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13C-2A1A-4659-8E31-B7AED491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7C8-536C-4AEB-BA84-DEE645CD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CFE-6052-4C60-AE6A-55816B31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6BA-B997-4262-9D4F-18303BE1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B89F-5066-4366-9429-308044F3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0CF-B9CE-49AA-B031-5345575B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770-0518-4953-B4BD-1ACE8EB3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01E4-FAD2-4392-A195-A9C1AA50DDE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sellaDiTesto 3"/>
          <p:cNvSpPr/>
          <p:nvPr/>
        </p:nvSpPr>
        <p:spPr>
          <a:xfrm>
            <a:off x="250920" y="404640"/>
            <a:ext cx="74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c000"/>
                </a:solidFill>
                <a:latin typeface="Brush Script MT"/>
                <a:ea typeface="바탕"/>
              </a:rPr>
              <a:t>Ein Freund ist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C:\Users\romag_000\Desktop\amicizia\unnamed (4).jpg"/>
          <p:cNvPicPr/>
          <p:nvPr/>
        </p:nvPicPr>
        <p:blipFill>
          <a:blip r:embed="rId1"/>
          <a:stretch/>
        </p:blipFill>
        <p:spPr>
          <a:xfrm>
            <a:off x="31680" y="1004760"/>
            <a:ext cx="2811600" cy="48722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48360" y="1004760"/>
            <a:ext cx="3095640" cy="48722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6" name="Immagine 4" descr=""/>
          <p:cNvPicPr/>
          <p:nvPr/>
        </p:nvPicPr>
        <p:blipFill>
          <a:blip r:embed="rId3"/>
          <a:stretch/>
        </p:blipFill>
        <p:spPr>
          <a:xfrm>
            <a:off x="2989440" y="1004760"/>
            <a:ext cx="2879640" cy="48722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C:\Users\romag_000\Desktop\amicizia\unnamed (6).jpg"/>
          <p:cNvPicPr/>
          <p:nvPr/>
        </p:nvPicPr>
        <p:blipFill>
          <a:blip r:embed="rId1"/>
          <a:stretch/>
        </p:blipFill>
        <p:spPr>
          <a:xfrm>
            <a:off x="179280" y="677880"/>
            <a:ext cx="4356360" cy="58071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4514760" y="620640"/>
            <a:ext cx="4521240" cy="597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200160" y="4005360"/>
            <a:ext cx="87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c000"/>
                </a:solidFill>
                <a:latin typeface="Calibri"/>
              </a:rPr>
              <a:t>Ein Freund im Unglück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c000"/>
                </a:solidFill>
                <a:latin typeface="Calibri"/>
              </a:rPr>
              <a:t>ist mehr Wert als Hundert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c000"/>
                </a:solidFill>
                <a:latin typeface="Calibri"/>
              </a:rPr>
              <a:t>im Glück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asellaDiTesto 3"/>
          <p:cNvSpPr/>
          <p:nvPr/>
        </p:nvSpPr>
        <p:spPr>
          <a:xfrm>
            <a:off x="4572000" y="4149720"/>
            <a:ext cx="441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ff"/>
                </a:solidFill>
                <a:latin typeface="Arial"/>
                <a:ea typeface="Arial"/>
              </a:rPr>
              <a:t>Ein Freund akzeptiert dich auch wenn du Fehler machts. Denn auf Akzeptanz basier wahre Freundschaf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4"/>
          <p:cNvSpPr/>
          <p:nvPr/>
        </p:nvSpPr>
        <p:spPr>
          <a:xfrm>
            <a:off x="3817800" y="189000"/>
            <a:ext cx="518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ff"/>
                </a:solidFill>
                <a:latin typeface="Arial"/>
                <a:ea typeface="Arial"/>
              </a:rPr>
              <a:t>Einem Freund kann ich immer die Wahrheit sagen. Vor einem Freund dürfen meine Gedanken laut se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3"/>
          <p:cNvSpPr/>
          <p:nvPr/>
        </p:nvSpPr>
        <p:spPr>
          <a:xfrm>
            <a:off x="0" y="337968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2f2f2"/>
                </a:solidFill>
                <a:latin typeface="Bookman Old Style"/>
                <a:ea typeface="BatangChe"/>
              </a:rPr>
              <a:t>Gute Freunde, die sind selten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2f2f2"/>
                </a:solidFill>
                <a:latin typeface="Bookman Old Style"/>
                <a:ea typeface="BatangChe"/>
              </a:rPr>
              <a:t>Die dich lieben und dich halten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2f2f2"/>
                </a:solidFill>
                <a:latin typeface="Bookman Old Style"/>
                <a:ea typeface="BatangChe"/>
              </a:rPr>
              <a:t>die mit dir lachen  und mit dir streiten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ec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magine 7" descr="unnamed.jpg"/>
          <p:cNvPicPr/>
          <p:nvPr/>
        </p:nvPicPr>
        <p:blipFill>
          <a:blip r:embed="rId1"/>
          <a:stretch/>
        </p:blipFill>
        <p:spPr>
          <a:xfrm>
            <a:off x="250920" y="662040"/>
            <a:ext cx="3402000" cy="4537080"/>
          </a:xfrm>
          <a:prstGeom prst="rect">
            <a:avLst/>
          </a:prstGeom>
          <a:ln w="0">
            <a:noFill/>
          </a:ln>
        </p:spPr>
      </p:pic>
      <p:pic>
        <p:nvPicPr>
          <p:cNvPr id="54" name="Immagine 6" descr="unnamed (1).jpg"/>
          <p:cNvPicPr/>
          <p:nvPr/>
        </p:nvPicPr>
        <p:blipFill>
          <a:blip r:embed="rId2"/>
          <a:stretch/>
        </p:blipFill>
        <p:spPr>
          <a:xfrm>
            <a:off x="4892760" y="2349360"/>
            <a:ext cx="3098880" cy="4133880"/>
          </a:xfrm>
          <a:prstGeom prst="rect">
            <a:avLst/>
          </a:prstGeom>
          <a:ln w="0">
            <a:noFill/>
          </a:ln>
        </p:spPr>
      </p:pic>
      <p:sp>
        <p:nvSpPr>
          <p:cNvPr id="55" name="Fumetto 3 5"/>
          <p:cNvSpPr/>
          <p:nvPr/>
        </p:nvSpPr>
        <p:spPr>
          <a:xfrm>
            <a:off x="6659640" y="1736640"/>
            <a:ext cx="2305080" cy="1224000"/>
          </a:xfrm>
          <a:prstGeom prst="wedgeEllipseCallout">
            <a:avLst>
              <a:gd name="adj1" fmla="val -22027"/>
              <a:gd name="adj2" fmla="val 879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Wo bist du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umetto 3 4"/>
          <p:cNvSpPr/>
          <p:nvPr/>
        </p:nvSpPr>
        <p:spPr>
          <a:xfrm>
            <a:off x="2701800" y="404640"/>
            <a:ext cx="2951280" cy="1440000"/>
          </a:xfrm>
          <a:prstGeom prst="wedgeEllipseCallout">
            <a:avLst>
              <a:gd name="adj1" fmla="val -41939"/>
              <a:gd name="adj2" fmla="val 6317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Ich brauche  dich!!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sellaDiTesto 4"/>
          <p:cNvSpPr/>
          <p:nvPr/>
        </p:nvSpPr>
        <p:spPr>
          <a:xfrm>
            <a:off x="-60480" y="2133720"/>
            <a:ext cx="791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Echte Freunde helfen dir wieder aufzustehen, wenn die anderen noch nicht mal gemerkt haben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dass du gefallen bis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sellaDiTesto 5"/>
          <p:cNvSpPr/>
          <p:nvPr/>
        </p:nvSpPr>
        <p:spPr>
          <a:xfrm>
            <a:off x="2195640" y="5394240"/>
            <a:ext cx="67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Ein echter Freund weiß immer, wann wir ihn brauch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asellaDiTesto 3"/>
          <p:cNvSpPr/>
          <p:nvPr/>
        </p:nvSpPr>
        <p:spPr>
          <a:xfrm>
            <a:off x="0" y="46080"/>
            <a:ext cx="687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oper Black"/>
              </a:rPr>
              <a:t>Die Freunde arbeiten zusammen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ttangolo 4"/>
          <p:cNvSpPr/>
          <p:nvPr/>
        </p:nvSpPr>
        <p:spPr>
          <a:xfrm>
            <a:off x="3794400" y="5411880"/>
            <a:ext cx="522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oper Black"/>
              </a:rPr>
              <a:t>…</a:t>
            </a:r>
            <a:r>
              <a:rPr b="0" lang="it-IT" sz="4400" spc="-1" strike="noStrike">
                <a:solidFill>
                  <a:srgbClr val="000000"/>
                </a:solidFill>
                <a:latin typeface="Cooper Black"/>
              </a:rPr>
              <a:t>um 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oper Black"/>
              </a:rPr>
              <a:t>gemeinsames Ziel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2T09:05:20Z</dcterms:created>
  <dc:creator>romag_000</dc:creator>
  <dc:description/>
  <dc:language>en-US</dc:language>
  <cp:lastModifiedBy>user</cp:lastModifiedBy>
  <dcterms:modified xsi:type="dcterms:W3CDTF">2015-11-06T18:33:37Z</dcterms:modified>
  <cp:revision>65</cp:revision>
  <dc:subject/>
  <dc:title>Diapositiva 1</dc:title>
</cp:coreProperties>
</file>